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7D6-A978-42A9-8775-FC5299AF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4BF-A53B-41E2-B16A-4450AE1F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5402-E3A2-40DC-ABB6-2C28A24B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1E8-BEE5-49A8-BD1C-D6CA6E9B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6C3-C58E-4445-BE43-CAA6FFE2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8C7-AB82-4341-94D0-8E2BF569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FA2-F4E3-4405-B25A-21F50E0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6FA-FE35-499D-90A0-C250F074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960-CF4C-4B09-BB49-59FD6B0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13D-6E8E-4C7C-BC26-EC90037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BAB-1DF2-4A10-86AE-B2DA0C3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9FC-62BB-42F8-8072-52BEAD1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2B1-B71F-445A-9186-FC5DF7D41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1219320"/>
            <a:ext cx="7086600" cy="37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7150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: Rachael Mueller, Ella Loscalzo, &amp; 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nimals live in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adoptions do animals that live in the rainfores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ype of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find a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00200" y="457200"/>
            <a:ext cx="58672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8 QUESTIO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010280" y="3429000"/>
            <a:ext cx="1675080" cy="2371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400800" y="6248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one geologic feature found in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inches a rain a year does the rainforest get per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you make from things found in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wo kinds of rainfor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676160" cy="169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5791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752480" y="685800"/>
            <a:ext cx="548640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K CIT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97180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iology the Dynamic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5812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ttp:/mbgnet.mobot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42670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www.blueplanetbiomes.org/worldbio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385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360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ael Mu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opical rainforests are around the 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forest are found on the coasts and arou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il in the rainforest is moist and doesn’t have a lot of nutr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6019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a Loscal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457200"/>
            <a:ext cx="57913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ological Featur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4800600"/>
            <a:ext cx="2514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erature and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in a rainforest ranges between 68 and 93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rain fall in a year is usually more than 100 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1722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a Loscal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lants – Maple Tree, Oak Tree, &amp; Birch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nimals – Rabbits, Deer, &amp;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5029200"/>
            <a:ext cx="1676160" cy="1671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ael Mu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543800" y="152280"/>
            <a:ext cx="1327320" cy="152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33520" y="2362320"/>
            <a:ext cx="1317600" cy="1676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523880" y="380880"/>
            <a:ext cx="525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MPERATE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lants – Emergents, Ferns, &amp; Broad Leave Shr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Animals – Jaguar, Rodents,&amp; Mac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6172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ael Mu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803240" cy="2352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60020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447560" cy="139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0720" y="2666880"/>
            <a:ext cx="2361960" cy="17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5800" y="4572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OPICAL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tes, earthworms, bacteria and fungi have adapted to decompose things very quickly before the nutrients are absorbed by the ground or washed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es on the bottom layer grow on the trees to get sunlight in the top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tter ants have adapted to climb on the vines and take down the leaves to there n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457200"/>
            <a:ext cx="7467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DAPTATIONS IN THE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095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a Loscal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4724280"/>
            <a:ext cx="12589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91520" y="4267080"/>
            <a:ext cx="1130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down trees to build houses and other buildings is one impact. So by stopping or slowing down the building process it will make the rainforest last lo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3733920" cy="2620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685800"/>
            <a:ext cx="825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MAN IMPACT ON THE RAINFORE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6095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168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ercial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utting down trees to make paper and other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sing the plants found to make medic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ruit from the trees for food and other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53080" y="6461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er Bog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47:15Z</dcterms:created>
  <dc:creator>xpstudent</dc:creator>
  <dc:description/>
  <dc:language>en-US</dc:language>
  <cp:lastModifiedBy>xpstudent</cp:lastModifiedBy>
  <dcterms:modified xsi:type="dcterms:W3CDTF">2010-10-28T12:20:40Z</dcterms:modified>
  <cp:revision>32</cp:revision>
  <dc:subject/>
  <dc:title>Slide 1</dc:title>
</cp:coreProperties>
</file>